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95D-2AB2-4331-85B6-A90658A3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870-A094-4112-B202-0A82ABB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009-B6E2-4F88-B176-2528B28A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3AD-DBEE-4212-A1EA-69A3822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047-1B42-418D-9669-C29A720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82C-5524-454F-AE9F-A2C279F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163-CACA-4D99-ACEA-B08121B9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317-F97A-4C66-9BD1-3C01BF2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509-F783-46B2-88CE-B8536FF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97F-F526-4ED8-8900-7E1EA19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C70-E183-4E1B-A344-80AA0C1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AF9-9A42-43B1-B012-EB1BC0E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AAC7-74C2-4255-9AA7-8E21FD690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60948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ing Tension in the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1128600"/>
            <a:ext cx="678204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riters often end a story by settling the conflict or problem that happens in the sto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e call this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ing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37492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Let’s look at an example of an ending that settles a conflict or problem, or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es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5029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bf1"/>
                </a:solidFill>
                <a:latin typeface="Arial"/>
              </a:rPr>
              <a:t>Learning About Base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Chuck Ha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914400"/>
            <a:ext cx="6629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Helvetica Neue"/>
              </a:rPr>
              <a:t>Baseball is dangerous.  You have to watch out for swing bats and wild pitches, but today, at least, it wasn’t sending me to the hos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762120"/>
            <a:ext cx="8001000" cy="52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Think of the story you are telling, the personal narrative you are writing.  What is the problem in the story that was overcome or about which you learned a less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rite an ending that settles the problem or conflict that you introduced in the beginning of the s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5652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I will be coming around to talk with you about your ending.  I will also be asking some of you to share the problem in your personal narrative and the way that you settled it for your read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1295280"/>
            <a:ext cx="655344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Remember to settle the problem in your story at the 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This is called </a:t>
            </a:r>
            <a:r>
              <a:rPr b="0" i="1" lang="en-US" sz="3600" spc="-1" strike="noStrike">
                <a:solidFill>
                  <a:srgbClr val="e3ebf1"/>
                </a:solidFill>
                <a:latin typeface="Arial"/>
              </a:rPr>
              <a:t>resolving tension</a:t>
            </a: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 for the rea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0:08:31Z</dcterms:created>
  <dc:creator>Chuck Hatt</dc:creator>
  <dc:description/>
  <dc:language>en-US</dc:language>
  <cp:lastModifiedBy>AAPS</cp:lastModifiedBy>
  <cp:lastPrinted>2007-11-20T21:30:06Z</cp:lastPrinted>
  <dcterms:modified xsi:type="dcterms:W3CDTF">2007-12-17T22:06:27Z</dcterms:modified>
  <cp:revision>20</cp:revision>
  <dc:subject/>
  <dc:title>PowerPoint Presentation</dc:title>
</cp:coreProperties>
</file>